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FEA-B53F-4AB6-BB1E-85FA9008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640-B934-4A56-A5CE-2CF802E6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149-F657-4D9F-8629-18398663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A3C-9C61-48EB-B223-3FED79EE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C9A-8F25-43B7-8869-B20B56C9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FD8-D346-4F3D-BE41-892A32E8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437-E62A-4406-A4B8-1B21C66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9F5-4A2C-405D-976D-1E82D69E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429-BCE1-47B4-B47A-3C6C310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28F-AC08-4E30-86F6-9CF0EDC3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772-F829-4EBB-9FD4-6026F890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A6E-49BB-4B64-92C4-8866EAA6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18840" y="469800"/>
            <a:ext cx="74160" cy="6159240"/>
            <a:chOff x="8718840" y="469800"/>
            <a:chExt cx="74160" cy="6159240"/>
          </a:xfrm>
        </p:grpSpPr>
        <p:sp>
          <p:nvSpPr>
            <p:cNvPr id="4" name=""/>
            <p:cNvSpPr/>
            <p:nvPr/>
          </p:nvSpPr>
          <p:spPr>
            <a:xfrm flipV="1" rot="10800000">
              <a:off x="8718840" y="469800"/>
              <a:ext cx="25560" cy="60861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flipV="1" rot="10800000">
              <a:off x="8763480" y="623520"/>
              <a:ext cx="29160" cy="6005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0" y="447120"/>
            <a:ext cx="8745480" cy="162000"/>
            <a:chOff x="0" y="447120"/>
            <a:chExt cx="8745480" cy="162000"/>
          </a:xfrm>
        </p:grpSpPr>
        <p:sp>
          <p:nvSpPr>
            <p:cNvPr id="10" name=""/>
            <p:cNvSpPr/>
            <p:nvPr/>
          </p:nvSpPr>
          <p:spPr>
            <a:xfrm flipV="1" rot="5400000">
              <a:off x="4452840" y="-3683160"/>
              <a:ext cx="58320" cy="852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342680" y="-3895920"/>
              <a:ext cx="6012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863640" indent="-285840">
              <a:lnSpc>
                <a:spcPct val="120000"/>
              </a:lnSpc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282680" indent="-22860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3" marL="1701720" indent="-228600">
              <a:lnSpc>
                <a:spcPct val="120000"/>
              </a:lnSpc>
              <a:spcBef>
                <a:spcPts val="700"/>
              </a:spcBef>
              <a:buClr>
                <a:srgbClr val="cc99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4" marL="2120760" indent="-22860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5" marL="2120760" indent="-22860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6" marL="2120760" indent="-22860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" name=""/>
          <p:cNvSpPr/>
          <p:nvPr/>
        </p:nvSpPr>
        <p:spPr>
          <a:xfrm>
            <a:off x="441360" y="73080"/>
            <a:ext cx="83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3333ff"/>
                </a:solidFill>
                <a:latin typeface="隶书"/>
                <a:ea typeface="隶书"/>
              </a:rPr>
              <a:t>8</a:t>
            </a:r>
            <a:r>
              <a:rPr b="1" lang="zh-CN" sz="2000" spc="-1" strike="noStrike">
                <a:solidFill>
                  <a:srgbClr val="3333ff"/>
                </a:solidFill>
                <a:latin typeface="隶书"/>
                <a:ea typeface="隶书"/>
              </a:rPr>
              <a:t>章  </a:t>
            </a:r>
            <a:r>
              <a:rPr b="1" lang="en-US" sz="2000" spc="-1" strike="noStrike">
                <a:solidFill>
                  <a:srgbClr val="3333ff"/>
                </a:solidFill>
                <a:latin typeface="隶书"/>
                <a:ea typeface="隶书"/>
              </a:rPr>
              <a:t>Windows 2000</a:t>
            </a:r>
            <a:r>
              <a:rPr b="1" lang="zh-CN" sz="2000" spc="-1" strike="noStrike">
                <a:solidFill>
                  <a:srgbClr val="3333ff"/>
                </a:solidFill>
                <a:latin typeface="隶书"/>
                <a:ea typeface="隶书"/>
              </a:rPr>
              <a:t>的网络互连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14400" y="304920"/>
            <a:ext cx="1676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6781320" y="304920"/>
            <a:ext cx="1676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4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7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0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3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427D-6AA1-4EA3-A0DF-ADAD2649C76E}" type="slidenum">
              <a:rPr b="0" lang="zh-CN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26.xml"/><Relationship Id="rId11" Type="http://schemas.openxmlformats.org/officeDocument/2006/relationships/slide" Target="slide26.xml"/><Relationship Id="rId12" Type="http://schemas.openxmlformats.org/officeDocument/2006/relationships/slide" Target="slide26.xml"/><Relationship Id="rId13" Type="http://schemas.openxmlformats.org/officeDocument/2006/relationships/slide" Target="slide26.xml"/><Relationship Id="rId14" Type="http://schemas.openxmlformats.org/officeDocument/2006/relationships/slide" Target="slide29.xml"/><Relationship Id="rId15" Type="http://schemas.openxmlformats.org/officeDocument/2006/relationships/slide" Target="slide29.xml"/><Relationship Id="rId16" Type="http://schemas.openxmlformats.org/officeDocument/2006/relationships/slide" Target="slide29.xml"/><Relationship Id="rId1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slide" Target="slide35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Arial"/>
              </a:rPr>
              <a:t>8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Arial"/>
              </a:rPr>
              <a:t>Windows 2000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的网络互连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1" action="ppaction://hlinksldjump"/>
              </a:rPr>
              <a:t>8.1 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2" action="ppaction://hlinksldjump"/>
              </a:rPr>
              <a:t>网络通信协议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3" action="ppaction://hlinksldjump"/>
              </a:rPr>
              <a:t>8.2  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Tahoma"/>
                <a:hlinkClick r:id="rId4" action="ppaction://hlinksldjump"/>
              </a:rPr>
              <a:t>TCP/IP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5" action="ppaction://hlinksldjump"/>
              </a:rPr>
              <a:t>协议的安装与设置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6" action="ppaction://hlinksldjump"/>
              </a:rPr>
              <a:t>8.3 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7" action="ppaction://hlinksldjump"/>
              </a:rPr>
              <a:t>从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8" action="ppaction://hlinksldjump"/>
              </a:rPr>
              <a:t>Windows 9x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9" action="ppaction://hlinksldjump"/>
              </a:rPr>
              <a:t>工作站登录网络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10" action="ppaction://hlinksldjump"/>
              </a:rPr>
              <a:t>8.4 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11" action="ppaction://hlinksldjump"/>
              </a:rPr>
              <a:t>从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2" action="ppaction://hlinksldjump"/>
              </a:rPr>
              <a:t>Windows 2000 Professional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13" action="ppaction://hlinksldjump"/>
              </a:rPr>
              <a:t>登录网络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14" action="ppaction://hlinksldjump"/>
              </a:rPr>
              <a:t>8.5  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Tahoma"/>
                <a:hlinkClick r:id="rId15" action="ppaction://hlinksldjump"/>
              </a:rPr>
              <a:t>Internet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16" action="ppaction://hlinksldjump"/>
              </a:rPr>
              <a:t>连接共享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050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0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86200" cy="375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418560" y="54864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2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设置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参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956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8" name="1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3205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97000" y="5181480"/>
            <a:ext cx="29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3  “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pconfig”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结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003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2" name="2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095880" cy="3333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616840" y="5638680"/>
            <a:ext cx="37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4  “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ing 127.0.0.1”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结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003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3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248520" cy="3417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56640" y="55627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5  “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in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主机自己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地址”的结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5996160"/>
            <a:ext cx="15238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8.2.5  Private IP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的使用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如果单位所申请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数不够使用，那么如何让公司内部网络所有的计算机都能够使用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CP/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协议来沟通，并连接到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ntern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并访问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ntern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上的资源呢？或者因为安全性的考虑，不让某些主机直接与外界沟通。利用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rivate 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是一个较好的方法。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在前面所介绍的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于公用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，这些地址可以直接用来连接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Internet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但是专用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IP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参见表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8-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是不能直接对外的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，只能够在公司内部的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Intranet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企业内部网）中使用。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09480" y="2658960"/>
          <a:ext cx="792504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58960"/>
                    <a:ext cx="792504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355200" y="19810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Arial"/>
              </a:rPr>
              <a:t>8-3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专用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5996160"/>
            <a:ext cx="15238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3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从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Windows 9x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工作站登录网络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6248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1" action="ppaction://hlinksldjump"/>
              </a:rPr>
              <a:t>8.3.1 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2" action="ppaction://hlinksldjump"/>
              </a:rPr>
              <a:t>安装网卡驱动程序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3" action="ppaction://hlinksldjump"/>
              </a:rPr>
              <a:t>8.3.2 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4" action="ppaction://hlinksldjump"/>
              </a:rPr>
              <a:t>设置网络通讯协议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5" action="ppaction://hlinksldjump"/>
              </a:rPr>
              <a:t>8.3.3 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6" action="ppaction://hlinksldjump"/>
              </a:rPr>
              <a:t>设置登录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7" action="ppaction://hlinksldjump"/>
              </a:rPr>
              <a:t>Windows 2000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7" name="">
            <a:hlinkClick r:id="rId8" action="ppaction://hlinksldjump"/>
          </p:cNvPr>
          <p:cNvSpPr/>
          <p:nvPr/>
        </p:nvSpPr>
        <p:spPr>
          <a:xfrm>
            <a:off x="7162920" y="5996160"/>
            <a:ext cx="16761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3.1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安装网卡驱动程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Windows 9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工作站启动，依次选择“开始”→“设置”→“控制面板”→“网络”→“配置”选项，打开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8-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对话框。其步骤如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8-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8-9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46716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06404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359880" y="594360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6  “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配置”选项卡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44340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095880" cy="2649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730960" y="518148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7  “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请选择网络组件类型”对话框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本章学习目标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网络通信协议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TCP/IP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协议的安装、设置以及测试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从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Windows 9x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登录网络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从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Windows 2000 Professional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登录网络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Internet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连接共享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5996160"/>
            <a:ext cx="16761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309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372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15520" y="556272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8  “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选择网络适配器”对话框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5910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207600" y="58672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9  “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资源”选项卡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5996160"/>
            <a:ext cx="15238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3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设置网络通讯协议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309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724280" cy="3208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848320" y="56386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10  “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选择网络协议”对话框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5200" y="5996160"/>
            <a:ext cx="15238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3.3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设置登录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Windows 200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域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309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5257800" cy="3571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795040" y="5867280"/>
            <a:ext cx="4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11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添加“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icrosoft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网络客户”协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5910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7" name="9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210200" cy="4496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388960" y="579132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12  “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icrosoft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网络用户协议”对话框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7644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1" name="0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248520" cy="2887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607120" y="533412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13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登录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ndows 200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网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5996160"/>
            <a:ext cx="15238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8.4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从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Windows 2000 Professiona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登录网络</a:t>
            </a:r>
            <a:endParaRPr b="1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独立服务器或者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Windows 2000 Professional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计算机在加入域后，便可以登录网络并参予域的运行，以下说明安装完成后再加入域的方法。</a:t>
            </a:r>
            <a:endParaRPr b="1" lang="en-US" sz="22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）在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Windows 2000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独立服务器或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Windows 2000 Professional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计算机上，添加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NetBEUI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TCP/IP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协议，并设置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地址、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DNS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和网关。</a:t>
            </a:r>
            <a:endParaRPr b="1" lang="en-US" sz="22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）用鼠标右键单击“我的电脑”图标，并从弹出的快捷菜单中选择“属性”命令，然后从弹出的“系统属性”中选择对话框“网络标识”</a:t>
            </a:r>
            <a:r>
              <a:rPr b="1" lang="zh-CN" sz="22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“属性”选项。出现图</a:t>
            </a:r>
            <a:r>
              <a:rPr b="1" lang="zh-CN" sz="2200" spc="-1" strike="noStrike">
                <a:solidFill>
                  <a:srgbClr val="080808"/>
                </a:solidFill>
                <a:latin typeface="Tahoma"/>
              </a:rPr>
              <a:t>8-14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所示的对话框时，输入要加入的域名，然后单击“确定”按钮。</a:t>
            </a:r>
            <a:endParaRPr b="1" lang="en-US" sz="2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5996160"/>
            <a:ext cx="16761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在“网络使用者名称及密码”对话框中输入一个用户账户与密码，该用户账户必须具备“在域中添加工作站”的权利，如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dministrator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完成后单击“确定”按钮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若成功加入域，则会出现“欢迎加入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lkb.edu.cn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网域”的提示，请单击“确定”按钮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重新启动。一旦加入域后，该计算机的完整计算机名称就会改变，也就是其末尾会附加上域的名称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pc1.lkb.edu.cn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6385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0" name="-2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187880" cy="4572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103920" y="58672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14  “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标识更改”对话框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5996160"/>
            <a:ext cx="15238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5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Internet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连接共享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28800" y="2057040"/>
            <a:ext cx="5486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1" action="ppaction://hlinksldjump"/>
              </a:rPr>
              <a:t>8.5.1  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Tahoma"/>
                <a:hlinkClick r:id="rId2" action="ppaction://hlinksldjump"/>
              </a:rPr>
              <a:t>Internet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3" action="ppaction://hlinksldjump"/>
              </a:rPr>
              <a:t>连接共享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4" action="ppaction://hlinksldjump"/>
              </a:rPr>
              <a:t>8.5.2 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5" action="ppaction://hlinksldjump"/>
              </a:rPr>
              <a:t>网络地址转换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5996160"/>
            <a:ext cx="16761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1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网络通信协议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CP/IP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ransmission Control Protoco1/Internet Protocol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WLink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tBEUI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tBIOS Extended User Interface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）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LC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 Link Control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） 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7162920" y="5996160"/>
            <a:ext cx="16761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5.1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Internet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连接共享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ntern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连接共享的功能比较简单，设置也相当容易。首先这台共享计算机内必须要有两个网络接口，如一个接口连接内部局域网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对内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）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、一个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SDN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连接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对外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）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；或者两块网卡，一块连接局域网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对内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）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、一块连接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Cable modem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对外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）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。然后进行以下的设置：图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8-15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至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8-18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经过设置后，网络上所有的计算机就可以通过共享计算机来浏览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Intern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的资源，创建好邮件账号，就可以收发电子邮件。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9076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9" name="Syzx2kpictures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553080" cy="3605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133080" y="541008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15  “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网络和拨号连接”对话框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50532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3" name="Syzx2kpictures" descr=""/>
          <p:cNvPicPr/>
          <p:nvPr/>
        </p:nvPicPr>
        <p:blipFill>
          <a:blip r:embed="rId1"/>
          <a:stretch/>
        </p:blipFill>
        <p:spPr>
          <a:xfrm>
            <a:off x="2292480" y="1066680"/>
            <a:ext cx="4032000" cy="4572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173040" y="58672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16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设置共享连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6100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7" name="Syzx2kpictures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48320" cy="4464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787840" y="586728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17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外部连接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设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6100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1" name="Syzx2kpictures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800600" cy="46101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787840" y="594360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18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内部连接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设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5996160"/>
            <a:ext cx="15238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5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网络地址转换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网络地址转换器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Network Address Translator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NAT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）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的功能比较强，例如它有部分类似防火墙的安全措施、对外可以使用一个以上的公共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以提高效率、而且可以弹性的设置其选项等。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设置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如下：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在服务器端以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Administrator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的账户登录。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依次选择“开始”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“程序”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“管理工具”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“路由和远程访问”，然后用鼠标右键单击远程访问服务器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，并从弹出的快捷菜单中选择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“配置并启用路由和远程访问”。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出现“欢迎使用路由和远程访问服务器安装向导”窗口，单击“下一步”按钮。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8-19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的窗口，选择“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ntern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连接服务器”，单击“下一步”按钮。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8-2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所示的对话框时，选择“设置有网络地址转换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NAT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）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路由协议的路由器”。单击“下一步”按钮。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8-2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所示的对话框，选择一个用来连接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ntern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的网络接口，图中的“外部连接”。单击“下一步”按钮。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单击“完成”按钮完成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ntern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共享端设置。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其他要共享此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ntern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连接的客户机，可以通过依次选择“开始”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“设置”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“网络和拨号连接”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“本地连接”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“属性”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ntern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协议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CP/IP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）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性”来设置。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37176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8" name="Syzx2kpictures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735360" cy="3230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37176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Syzx2kpictures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733560" cy="3230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460880" y="5348160"/>
            <a:ext cx="21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8-19  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选择公用配置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84840" y="5334120"/>
            <a:ext cx="31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8-20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nternet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连接服务器设置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1338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5" name="Syzx2kpictures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410080" cy="4620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132720" y="579132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8-21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选择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ernet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连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996160"/>
            <a:ext cx="15238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848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HANK YOU VERY MUCH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！</a:t>
            </a:r>
            <a:endParaRPr b="1" lang="en-US" sz="4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本章到此结束，</a:t>
            </a:r>
            <a:endParaRPr b="1" lang="en-US" sz="66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谢谢您的光临！</a:t>
            </a:r>
            <a:endParaRPr b="1" lang="en-US" sz="6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7162920" y="5996160"/>
            <a:ext cx="16761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endshow"/>
          </p:cNvPr>
          <p:cNvSpPr/>
          <p:nvPr/>
        </p:nvSpPr>
        <p:spPr>
          <a:xfrm>
            <a:off x="5920560" y="601992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2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CP/IP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协议的安装与设置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1" action="ppaction://hlinksldjump"/>
              </a:rPr>
              <a:t>8.2.1  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Tahoma"/>
                <a:hlinkClick r:id="rId2" action="ppaction://hlinksldjump"/>
              </a:rPr>
              <a:t>IP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3" action="ppaction://hlinksldjump"/>
              </a:rPr>
              <a:t>地址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4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5" action="ppaction://hlinksldjump"/>
              </a:rPr>
              <a:t>8.2.2 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6" action="ppaction://hlinksldjump"/>
              </a:rPr>
              <a:t>子网掩码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7" action="ppaction://hlinksldjump"/>
              </a:rPr>
              <a:t>8.2.3 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8" action="ppaction://hlinksldjump"/>
              </a:rPr>
              <a:t>默认网关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ahoma"/>
                <a:hlinkClick r:id="rId9" action="ppaction://hlinksldjump"/>
              </a:rPr>
              <a:t>8.2.4 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10" action="ppaction://hlinksldjump"/>
              </a:rPr>
              <a:t>安装与测试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1" action="ppaction://hlinksldjump"/>
              </a:rPr>
              <a:t>TCP/IP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Tahoma"/>
                <a:hlinkClick r:id="rId12" action="ppaction://hlinksldjump"/>
              </a:rPr>
              <a:t>8.2.5  Private IP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13" action="ppaction://hlinksldjump"/>
              </a:rPr>
              <a:t>的使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">
            <a:hlinkClick r:id="rId14" action="ppaction://hlinksldjump"/>
          </p:cNvPr>
          <p:cNvSpPr/>
          <p:nvPr/>
        </p:nvSpPr>
        <p:spPr>
          <a:xfrm>
            <a:off x="7162920" y="5996160"/>
            <a:ext cx="16761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2.1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IP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地址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为了适合各种不同大小规模的网络需求，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被分为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B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五大类，其中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B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类是可供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ntern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网络上的主机使用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，而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类是供特殊用途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。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类：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类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适合于超大型的网络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类：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类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适合于大、中型网络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类：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类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适合于小型网络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类：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类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Network ID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用于多点播送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类：这是一个用于将来扩展用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Network ID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5996160"/>
            <a:ext cx="15238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2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子网掩码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利用子网掩码获得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地址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Network ID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Host ID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CP/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网络上的主机相互通信时，可以利用子网掩码得知这些主机是否处在相同的网络区段内，即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Network ID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是否相同。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利用子网掩码切割子网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子网掩码的另一个作用就是将一个网络切割为几个以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路由器连接的子网，如果单位有多个分散的网络，则每个网络都需要有一个单独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Network ID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67640" y="8380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Arial"/>
              </a:rPr>
              <a:t>8-1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P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地址第四个字节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190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07320" y="362124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Arial"/>
              </a:rPr>
              <a:t>8-2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P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地址与子网掩码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7315200" cy="1631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15200" y="5996160"/>
            <a:ext cx="15238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8.2.3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默认网关</a:t>
            </a:r>
            <a:endParaRPr b="1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在同一个网络区域</a:t>
            </a:r>
            <a:r>
              <a:rPr b="1" lang="zh-CN" sz="22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Network ID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相同</a:t>
            </a:r>
            <a:r>
              <a:rPr b="1" lang="zh-CN" sz="2200" spc="-1" strike="noStrike">
                <a:solidFill>
                  <a:srgbClr val="080808"/>
                </a:solidFill>
                <a:latin typeface="Tahoma"/>
              </a:rPr>
              <a:t>）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内的主机，可以直接相互通信，而不同网络区域</a:t>
            </a:r>
            <a:r>
              <a:rPr b="1" lang="zh-CN" sz="22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Network ID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不同</a:t>
            </a:r>
            <a:r>
              <a:rPr b="1" lang="zh-CN" sz="2200" spc="-1" strike="noStrike">
                <a:solidFill>
                  <a:srgbClr val="080808"/>
                </a:solidFill>
                <a:latin typeface="Tahoma"/>
              </a:rPr>
              <a:t>）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内的主机，则无法直接相互沟通，必须通过</a:t>
            </a:r>
            <a:r>
              <a:rPr b="1" lang="en-US" sz="22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路由器进行中转。图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8-1  </a:t>
            </a:r>
            <a:r>
              <a:rPr b="1" lang="zh-CN" sz="2200" spc="-1" strike="noStrike">
                <a:solidFill>
                  <a:srgbClr val="080808"/>
                </a:solidFill>
                <a:latin typeface="Times New Roman"/>
              </a:rPr>
              <a:t>通过路由器沟通</a:t>
            </a:r>
            <a:endParaRPr b="1" lang="en-US" sz="22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19320" y="3200400"/>
            <a:ext cx="6768720" cy="3200040"/>
            <a:chOff x="1219320" y="3200400"/>
            <a:chExt cx="6768720" cy="3200040"/>
          </a:xfrm>
        </p:grpSpPr>
        <p:sp>
          <p:nvSpPr>
            <p:cNvPr id="129" name=""/>
            <p:cNvSpPr/>
            <p:nvPr/>
          </p:nvSpPr>
          <p:spPr>
            <a:xfrm>
              <a:off x="1699920" y="3684240"/>
              <a:ext cx="2418120" cy="137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4360" y="4851720"/>
              <a:ext cx="2418120" cy="137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419640" y="3438360"/>
              <a:ext cx="84132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3369600" y="4637160"/>
              <a:ext cx="940680" cy="3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1904400" y="4531320"/>
              <a:ext cx="902520" cy="61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4200840" y="5127480"/>
              <a:ext cx="9414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5139360" y="5800320"/>
              <a:ext cx="84132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2132280" y="3280680"/>
              <a:ext cx="901800" cy="61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5406480" y="4429080"/>
              <a:ext cx="901800" cy="61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8"/>
            <a:stretch/>
          </p:blipFill>
          <p:spPr>
            <a:xfrm>
              <a:off x="6712560" y="5198040"/>
              <a:ext cx="902880" cy="6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494800" y="4168800"/>
              <a:ext cx="89352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66"/>
                  </a:solidFill>
                  <a:latin typeface="Times New Roman"/>
                </a:rPr>
                <a:t>甲网络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46080" y="5313600"/>
              <a:ext cx="89352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66"/>
                  </a:solidFill>
                  <a:latin typeface="Times New Roman"/>
                </a:rPr>
                <a:t>乙网络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3237840"/>
              <a:ext cx="133236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66"/>
                  </a:solidFill>
                  <a:latin typeface="Times New Roman"/>
                </a:rPr>
                <a:t>主机</a:t>
              </a: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192.168.0.3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21040" y="3200400"/>
              <a:ext cx="13323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66"/>
                  </a:solidFill>
                  <a:latin typeface="Times New Roman"/>
                </a:rPr>
                <a:t>主机</a:t>
              </a: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192.168.0.2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43040" y="5087520"/>
              <a:ext cx="13323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66"/>
                  </a:solidFill>
                  <a:latin typeface="Times New Roman"/>
                </a:rPr>
                <a:t>主机</a:t>
              </a: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192.168.0.4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40840" y="4239360"/>
              <a:ext cx="133236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Router X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192.168.0.1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2320" y="5384160"/>
              <a:ext cx="13323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Router X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202.197.0.1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05960" y="4043160"/>
              <a:ext cx="13323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66"/>
                  </a:solidFill>
                  <a:latin typeface="Times New Roman"/>
                </a:rPr>
                <a:t>主机</a:t>
              </a: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202.197.0.4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5680" y="4800600"/>
              <a:ext cx="13323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66"/>
                  </a:solidFill>
                  <a:latin typeface="Times New Roman"/>
                </a:rPr>
                <a:t>主机</a:t>
              </a: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202.197.0.3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12920" y="5947920"/>
              <a:ext cx="13323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66"/>
                  </a:solidFill>
                  <a:latin typeface="Times New Roman"/>
                </a:rPr>
                <a:t>主机</a:t>
              </a: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Times New Roman"/>
                </a:rPr>
                <a:t>202.197.0.2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3360" y="4936320"/>
              <a:ext cx="242280" cy="2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315200" y="5996160"/>
            <a:ext cx="15238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8.2.4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安装与测试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CP/IP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可以通过如下步骤来安装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CP/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通信协议，首先依次选择“开始”→“设置”→“网络和拨号连接”选项，在弹出的对话框中用鼠标右键单击“本地连接”，并从弹出的快捷菜单中选择“属性”命令，并单击“安装”→“协议”→“添加”→“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ntern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协议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CP/IP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）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”，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然后设置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、子网掩码、默认网关等，如图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8-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在设置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时，可以有两个选择：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自动获得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使用下面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IP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地址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2:03:48Z</dcterms:created>
  <dc:creator>新人电脑</dc:creator>
  <dc:description/>
  <dc:language>en-US</dc:language>
  <cp:lastModifiedBy>新人电脑</cp:lastModifiedBy>
  <dcterms:modified xsi:type="dcterms:W3CDTF">2002-01-23T04:46:24Z</dcterms:modified>
  <cp:revision>28</cp:revision>
  <dc:subject/>
  <dc:title>第8章  Windows 2000的网络互连</dc:title>
</cp:coreProperties>
</file>